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0E1-F705-4661-B90F-82E6BB4C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91-BF92-49DE-B7C9-653DF4F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C7-00D9-4059-81B0-DABCF15E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021-B872-451A-8466-0BFF9978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D02B-5300-498B-A0B2-6367E9DB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C07-E67A-4405-9C58-52F3ED5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C6D5-6B68-4052-BD15-85BEE580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B482-BBD5-4B9B-A912-B34B021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5C5-C5C9-4212-B292-73D9485C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B5F-3469-4142-8043-817D2024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852-FD71-40F3-AF9E-F20F9C9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62A-F65F-435D-8906-60BBF5C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33D-CCF1-4A42-BEB8-313EE50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1C33-0A79-4AC5-B841-08B2E77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008-3D52-4E88-89F3-2EC8452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C1FC-0E2B-47D9-8FDB-086C8A87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B4BF-9D6E-43A9-A835-C0AB719A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989-4739-491B-9D67-99AFDE2B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3BB-2E12-4D92-8250-7FF96A2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84C-3C3F-4F1D-89CD-361563A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BF2-C029-4DAF-8BE5-E1E3727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899-77CA-4CFF-8DA9-B1E7451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1FE-AE2D-4409-82E8-3F60965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10A-C190-4533-829B-C00B74F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5116-F3E9-4712-A374-91B9F4EE86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7153-96FF-4ABC-B528-07118920FA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1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-5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righteous man bless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the land of Uz, to the Eas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triarch who offered sacrifi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who feare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ri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large family (ten childre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very great household (servant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greatest of all the men of the E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6-1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slanders his charac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ed Job of serving God only because God had bless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tan asked God, “Does Job fear God for nothing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stripped of his blessings, he would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accepted Satan’s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llowed Satan to strip him of all of his possessions and his childr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herds of oxen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sheep (7,000) killed by a thunderst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vast herds of camels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10 children killed by a strong w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reac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:21 (ESV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he said, "Naked I came from my mother's womb, and naked shall I return. The Lord gave, and the Lord has taken away; blessed be the name of the Lord."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4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4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4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made another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his health is taken away, he will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itten by the most painful disease known to the ancient world (boils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 thought he should curse God and d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n Job’s friends finally blamed him for his afflictions – said he was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e next lesson, we will discu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est of th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ations made by Job’s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Job answ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 young man told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response to the occa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finally happened to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Wisdom Literature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, Psalms, Proverbs, Ecclesiastes, and Song of Solomon often called – “poetry” but they are mor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contain “Wisdom Literature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eal with man’s approach to life on earth in all its asp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ir messages are found in groups of phrases and expres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o men serve God?  Is it for gain, or is it because of devotion and commit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salm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ish hymnal – praises, prayers to express our sacred and holy though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verbs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ollection of principles and axioms containing the distilled wisdom of all the ages – principles of living righ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clesiaste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meaning of “life under the sun”?  What really matters in lif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g of Solomon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ve s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als with the feelings of affection, romance, and sexual attraction leading up to marri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of the books were written by David and Solomon during the period of the United Kingd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Solomon’s wisdo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Read 1 Kings 4:29-3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3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ok of Job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riarchal period; God spoke directly and Job offered sacrifices; God’s serv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dom literature; Solomon and Dav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iends; descendants of Abra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life; Job lived 140 year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f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e was re-establ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ention of Israel or the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babl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Abraham, before Solom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Scope of Our Study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obtain a general overview of the whole Bible as it pertains to God’s plan of redem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discuss the “gist” of each book with some of their practical lessons for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not go into a detailed study of each bo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ur Important Question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men serve God only for the blessings He giv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uffering always a sign of God’s wra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, is prosperity always a sign of God’s pleasu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we have a right to question God about why He does the things He does, or why He allows the things He allow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4:37:54Z</dcterms:modified>
  <cp:revision>33</cp:revision>
  <dc:subject/>
  <dc:title>Job</dc:title>
</cp:coreProperties>
</file>